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B52-610A-45FB-9130-03614955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0558-4936-4A80-B232-2FB25240DF96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– Image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5D9A-E716-43E3-B0F1-B319ACCD4A1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7E0-0BF3-4968-874B-CFD9863C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7E3-968F-48FF-A0DC-8A2558AF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7C4-26F4-4E2D-A679-9A337D1A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3D2-520D-4DB9-8354-C0587849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ADA-E846-4487-A9F5-F3106811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B50F-D98E-46FD-B3F4-8D56D6D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02D-88DD-404F-908B-DF42069D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240A-E911-48D0-BC02-1913348D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7405-7613-4385-A780-58091B2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8B23-CD94-44F3-A7CF-D5208B2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8F34-5CE5-49E8-9143-043CA312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2E2-2AE4-41D6-A247-271D3F0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F931-BDCE-43F4-8DB2-ECF04EF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00E6-C5CB-42BE-80C1-4E818AE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1F29-BDFB-4921-9360-033DB954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9CE6-6A52-4BC0-9CD3-900754BF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42B2-82B8-4883-A0DB-8E2715F4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96A-5623-42F5-A6DD-4651F27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DCF-E5FA-4B1B-8F10-EB680703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5EC-1C6F-4BE1-BEFC-CF78826A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381-BD88-4B02-9DDF-4929FDD4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19A-114C-47F3-AC7E-BB2FD7E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74E-4FCF-464F-81A3-9EE38A3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255-5D7A-46A9-AB45-B709C3E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ECDE-56E1-45CC-8BB3-067182242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8C31-6426-4293-A377-C1EF357DBFE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Image Shar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haring Images Onlin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ing of imag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mmon tags categorize related imag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ussion on imag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SS for upda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lick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wned by Yaho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y be priva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notations in image (description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ive commons – may be used for instruc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otostream in Blo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icas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wned by Goog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y install free prog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oto organization and basic image edi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mbed slideshow in blog, wiki, or other webpa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8-07-15T14:54:59Z</dcterms:modified>
  <cp:revision>138</cp:revision>
  <dc:subject/>
  <dc:title>Podca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